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F9E8-96B8-4E64-8D30-8F8558B49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C773-1559-4863-8D35-3B821FBC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6534-DE6D-4935-9E11-B6AE1D779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EABB-BD71-4B86-BBF8-28135E26C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D4F3-A382-4AD6-83F9-A03F26D0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4898-87BE-4250-B95A-C69ECD5E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BAB8-A29C-454E-AC0D-211BBB8A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2D9F-EDA9-41FA-932F-79FCDEDE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7243-3B82-432C-9DB1-555C5733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D40E-718D-440B-925E-6449CC96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D60A-4918-4CAF-BEBC-5E231BE7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A724-602C-45EC-92CC-B7AAD8D8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DC67-2019-4A02-9F32-89EEE2C7A62E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19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ιώνα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χα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ίνε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υρώπ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λέ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λλαγέ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ιστήμης,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δηγού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θμιαί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ατροπ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θιερωμέν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ξιώ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Τίτλος 1" descr=""/>
          <p:cNvPicPr/>
          <p:nvPr/>
        </p:nvPicPr>
        <p:blipFill>
          <a:blip r:embed="rId1"/>
          <a:stretch/>
        </p:blipFill>
        <p:spPr>
          <a:xfrm>
            <a:off x="4698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νευμ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αστ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ινήματα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ιαφωτισμός,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αλλ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Ρομαντισμός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ιομηχαν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Ρωσ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 παραδοσιακ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ίη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ταποκρι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ην παλι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άξ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ραγμάτω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τ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αραπάν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λλαγέ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ενεργούν σ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ρόπο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ποί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άνθρωπ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ισθα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κόσμ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ηρεάζου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ηλαδή την ευαισθησία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 να εκφράσει τη «διάλυση» ευαισθησίας του ανθρώπου, η ποίηση έπρεπε να βρει καινούριους εκφραστικούς τρόπου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όνομα: άγνωστο, παρουσιαζόταν πρώτη φορά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ναι διφορούμενος: μπορεί να είναι ένας όρος της στιχουργικής,αλλὰ μπορεί και να σημαίνει μια βαθύτερη αλλαγή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χε ασφαλώς το δεύτερο νόημα. Με τη λιγοσέλιδη ποιητικὴ συλλογή ερχόταν στη νέα ελληνική ποίηση μία αναπάντεχη αλλαγή, μια πραγματική «στροφή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Τίτλος 1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13:27Z</dcterms:created>
  <dc:creator>ΓΙΩΡΓΟΣ   ΔΕΣΠΟΙΝΑ</dc:creator>
  <dc:description/>
  <dc:language>en-US</dc:language>
  <cp:lastModifiedBy>giorgos</cp:lastModifiedBy>
  <dcterms:modified xsi:type="dcterms:W3CDTF">2012-03-23T09:53:23Z</dcterms:modified>
  <cp:revision>11</cp:revision>
  <dc:subject/>
  <dc:title>ΗΓενιάτου’30 Aπό το19ο αιώνα, είχαν γίνει στην Ευρώπη πολλέςαλλαγές,που έχουν σχέση με την εξέλιξη της επιστήμης και τη δομή της κοινωνικής οργάνωσης και οδηγούν βαθμιαία στην ανατροπή των καθιερωμένων αξιών.</dc:title>
</cp:coreProperties>
</file>